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D046-E4FD-49C4-AE79-ACB6C682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C79-5B2F-4B39-9782-FC4EFF321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E44B-0066-4E34-983C-969B235E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5890-F1F2-4335-917E-F4CC5B05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C6F7-EC4F-4298-B273-1CCFC10EF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1CB13-82BA-46D6-A52C-250EF667C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9A647-EEC7-48B1-906F-4952F0D3F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C420A-0123-45D3-A6EA-0D0B721B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0AFC-C31E-4408-ADE6-C00635B2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4CA4-B99D-455C-A963-16E1AA45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7AEAD-D002-4634-BC02-EB967C0C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D116-37B2-410C-A423-76F1619B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39A0D-B2EB-465D-A3D0-1178A58D7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3EA5F-B0DC-4DB9-87A7-4E72A5525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04B7-3CF3-441E-BD85-9FA3D4AD4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70016-3517-4145-8A36-25CA82AA2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118E-2225-4265-AFE7-FA451055F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9374-EDB2-4B19-AF07-B11C0D247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6B2F-A163-487D-B3DF-B062128AE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4ABF-3FE0-42DE-865D-7DD0CDD97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C3E3-BC1F-4910-80B7-D96FDF596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AE54-3DC1-400D-AF65-67D968551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D0B7-4D48-467D-9D5B-B7B8C558A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6AB6-37BC-476D-B528-ADDA6307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1F52E-4B03-4CF0-B571-CD6A82C143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0F5BD-B860-4062-BFB6-86A19E69730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620120" cy="1697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GIORNALIN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la C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920" y="2637000"/>
            <a:ext cx="6618240" cy="4032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 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a dei let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51480" y="2400480"/>
            <a:ext cx="287964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M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IMA PAGIN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RONAC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c0039"/>
                </a:solidFill>
                <a:latin typeface="Arial"/>
              </a:rPr>
              <a:t>INTERVISTA a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STA DEI LETTOR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20:49Z</dcterms:created>
  <dc:creator>.</dc:creator>
  <dc:description/>
  <dc:language>en-US</dc:language>
  <cp:lastModifiedBy>.</cp:lastModifiedBy>
  <dcterms:modified xsi:type="dcterms:W3CDTF">2007-10-07T15:50:12Z</dcterms:modified>
  <cp:revision>11</cp:revision>
  <dc:subject/>
  <dc:title>IL GIORNALINO della Classe</dc:title>
</cp:coreProperties>
</file>